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A61-BBF3-44DF-9E01-82496550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2F3-1C4C-4B0E-9092-955D9980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E19-943D-4212-A6E2-F1BAC8EF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9BC-BC3E-47F7-82F6-FCAF2802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607-A554-4837-BD3C-D2BD3088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38C-A655-442F-B7BE-C73C865F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043-7BA2-4E3F-A13F-3CAC73E5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70B-EC92-4A45-9FDF-C92AFC7E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894-6337-4677-8763-7269A82C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98A-6244-4638-893E-F7F3C4E0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6B8-4E49-4851-B751-E01324B8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3A3A-538F-484B-AA1B-8E3377F6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9CB6-EFFF-4204-910D-2DA624848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1140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533760" y="2492280"/>
            <a:ext cx="5610240" cy="3984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435640" y="3357720"/>
            <a:ext cx="1871640" cy="2404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755640" y="260280"/>
            <a:ext cx="424800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DECEMBRIE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0"/>
            <a:ext cx="2845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Ziua naţională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a tutoror românilor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2249280"/>
            <a:ext cx="435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,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1 decembrie 19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unarea Națională de la Alba Iu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l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stituită din 1228 delegați, și sprijinită de peste 100.000 de persoane adunate la eveniment din toate colțur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dealulu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și Banatului, a adoptat o Rezoluțiune care consfințește unirea tuturor românilor din Transilvania și întreg Banatul cu Româ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38:49Z</dcterms:created>
  <dc:creator> </dc:creator>
  <dc:description/>
  <dc:language>en-US</dc:language>
  <cp:lastModifiedBy> </cp:lastModifiedBy>
  <dcterms:modified xsi:type="dcterms:W3CDTF">2011-11-28T15:54:15Z</dcterms:modified>
  <cp:revision>2</cp:revision>
  <dc:subject/>
  <dc:title>Diapozitivul 1</dc:title>
</cp:coreProperties>
</file>